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712325"/>
</p:presentation>
</file>

<file path=ppt/commentAuthors.xml><?xml version="1.0" encoding="utf-8"?>
<p:cmAuthorLst xmlns:p="http://schemas.openxmlformats.org/presentationml/2006/main">
  <p:cmAuthor id="0" name="StarUML" initials="S" lastIdx="2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<Relationship Id="rId11" Type="http://schemas.openxmlformats.org/officeDocument/2006/relationships/commentAuthors" Target="commentAuthors.xml"/>
</Relationships>
</file>

<file path=ppt/comments/comment1.xml><?xml version="1.0" encoding="UTF-8" standalone="yes"?>
<p:cmLst xmlns:p="http://schemas.openxmlformats.org/presentationml/2006/main"><p:cm authorId="0" dt="2005-10-29T12:41:54.609000000" idx="1"><p:pos x="4616" y="2736"/><p:text><<DISPLAY-TEXT>>
::;current().Author;</p:text></p:cm><p:cm authorId="0" dt="2005-10-29T12:41:54.609000000" idx="2"><p:pos x="4616" y="2960"/><p:text><<DISPLAY-TEXT>>
::;current().Company;</p:text></p:cm><p:cm authorId="0" dt="2005-10-29T12:41:54.609000000" idx="3"><p:pos x="2402" y="3202"/><p:text><<DISPLAY-TEXT>>
::;current().Copyright;</p:text></p:cm><p:cm authorId="0" dt="2005-10-29T12:41:54.609000000" idx="4"><p:pos x="1376" y="1200"/><p:text><<DISPLAY-TEXT>>
::;current().Title;</p:text></p:cm></p:cmLst>
</file>

<file path=ppt/comments/comment2.xml><?xml version="1.0" encoding="UTF-8" standalone="yes"?>
<p:cmLst xmlns:p="http://schemas.openxmlformats.org/presentationml/2006/main"><p:cm authorId="0" dt="2005-10-29T12:54:39.343000000" idx="5"><p:pos x="1296" y="1368"/><p:text><<DISPLAY-TEXT>>
;current().Documentation</p:text></p:cm></p:cmLst>
</file>

<file path=ppt/comments/comment3.xml><?xml version="1.0" encoding="UTF-8" standalone="yes"?>
<p:cmLst xmlns:p="http://schemas.openxmlformats.org/presentationml/2006/main"><p:cm authorId="0" dt="2005-10-29T14:23:02.953000000" idx="6"><p:pos x="0" y="0"/><p:text><<REPEAT>>
{R}::Use Case Model;UMLPackage;;</p:text></p:cm><p:cm authorId="0" dt="2005-10-29T14:23:02.968000000" idx="7"><p:pos x="1344" y="1424"/><p:text><<DISPLAY-TEXT>>
;current().Documentation;</p:text></p:cm><p:cm authorId="0" dt="2005-10-29T14:23:02.968000000" idx="8"><p:pos x="2440" y="472"/><p:text><<DISPLAY-TEXT>>
;current().Name;</p:text></p:cm></p:cmLst>
</file>

<file path=ppt/comments/comment4.xml><?xml version="1.0" encoding="UTF-8" standalone="yes"?>
<p:cmLst xmlns:p="http://schemas.openxmlformats.org/presentationml/2006/main"><p:cm authorId="0" dt="2005-10-29T14:16:46.640000000" idx="9"><p:pos x="80" y="72"/><p:text><<REPEAT>>
;UMLUseCaseDiagram;;</p:text></p:cm><p:cm authorId="0" dt="2005-10-29T14:16:46.640000000" idx="10"><p:pos x="3712" y="448"/><p:text><<DISPLAY-TEXT>>
;current().Name</p:text></p:cm><p:cm authorId="0" dt="2005-10-29T14:16:46.656000000" idx="11"><p:pos x="1016" y="3256"/><p:text><<DISPLAY-TEXT>>
;current().Documentation;</p:text></p:cm><p:cm authorId="0" dt="2005-10-29T14:16:46.656000000" idx="12"><p:pos x="1672" y="1528"/><p:text><<DISPLAY-IMAGE>>
;;</p:text></p:cm><p:cm authorId="0" dt="2005-10-29T14:16:46.656000000" idx="13"><p:pos x="112" y="4120"/><p:text><<ENDREPEAT>></p:text></p:cm></p:cmLst>
</file>

<file path=ppt/comments/comment5.xml><?xml version="1.0" encoding="UTF-8" standalone="yes"?>
<p:cmLst xmlns:p="http://schemas.openxmlformats.org/presentationml/2006/main"><p:cm authorId="0" dt="2005-10-29T14:17:08.078000000" idx="14"><p:pos x="0" y="0"/><p:text><<REPEAT>>
;UMLUseCase;;</p:text></p:cm><p:cm authorId="0" dt="2005-10-29T14:17:08.078000000" idx="15"><p:pos x="2408" y="432"/><p:text><<DISPLAY-TEXT>>
;current().Name</p:text></p:cm><p:cm authorId="0" dt="2005-10-29T14:17:08.093000000" idx="16"><p:pos x="1248" y="1200"/><p:text><<DISPLAY-TEXT>>
;current().Documentation;</p:text></p:cm><p:cm authorId="0" dt="2005-10-29T14:17:08.093000000" idx="17"><p:pos x="1256" y="1624"/><p:text><<DISPLAY-TEXT>>
;trim(current().GetTaggedValueAsString("UMLStandard", "UseCaseSpecification", "BasicFlow"));</p:text></p:cm><p:cm authorId="0" dt="2005-10-29T14:17:08.093000000" idx="18"><p:pos x="1280" y="2048"/><p:text><<DISPLAY-TEXT>>
;trim(current().GetTaggedValueAsString("UMLStandard", "UseCaseSpecification", "AlternativeFlows"));</p:text></p:cm><p:cm authorId="0" dt="2005-10-29T14:17:08.093000000" idx="19"><p:pos x="1280" y="2456"/><p:text><<DISPLAY-TEXT>>
;trim(current().GetTaggedValueAsString("UMLStandard", "UseCaseSpecification", "Preconditions"));</p:text></p:cm><p:cm authorId="0" dt="2005-10-29T14:17:08.093000000" idx="20"><p:pos x="1264" y="2872"/><p:text><<DISPLAY-TEXT>>
;trim(current().GetTaggedValueAsString("UMLStandard", "UseCaseSpecification", "Postconditions"));</p:text></p:cm><p:cm authorId="0" dt="2005-10-29T14:17:08.093000000" idx="21"><p:pos x="4344" y="4160"/><p:text><<ENDREPEAT>></p:text></p:cm><p:cm authorId="0" dt="2005-10-29T14:17:08.093000000" idx="22"><p:pos x="5200" y="4160"/><p:text><<ENDREPEAT>>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342E-67BB-4ACF-923E-209B754BB8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CCF91-CF5F-44E0-A7CA-F6B7646D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8C91D-7972-4A2C-945B-F577D8D3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33DB-DD84-4E4F-81D1-B6112880AA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98934-4A78-4EB9-B13C-C925FC692A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DD3EB-DF31-47EC-B831-45138728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DABC9-5FA2-4A98-A454-4F159B17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5036C-4EBD-465B-82E7-98968308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381EE-EDBB-44FD-8273-409850C2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979280" y="2133720"/>
            <a:ext cx="6910200" cy="33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4A319-78BE-4888-975D-1EA392CB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CADAA-18E8-466D-BDC1-8D3D786C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0E24-AD91-4B0E-82DC-6A13420C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E30CD-CC9D-414D-B63D-D0A29A41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77C3C-4E3D-4F83-AFCD-03D1B3CF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99F05-E859-42C9-9818-BD11919C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90327-FFBE-4E5E-8AB1-E983F92B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12D85-5194-4893-969E-DE27C994C9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4B2A9-421F-4017-8D7D-6A602763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268D-4293-4346-827C-D78CF335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949A8-A454-42AE-BF46-D0E9BBBD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79280" y="2133720"/>
            <a:ext cx="6910200" cy="33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FC95-6A29-4447-AF73-371B8EB4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D462A-26C7-4F95-A7DD-250F22B7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03E4-F9C5-4BED-9713-0AA56CE5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861C-1844-4753-8219-C12138FB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0"/>
            <a:ext cx="8458200" cy="838080"/>
          </a:xfrm>
          <a:prstGeom prst="rect">
            <a:avLst/>
          </a:prstGeom>
          <a:solidFill>
            <a:srgbClr val="ff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42040"/>
            <a:ext cx="2565000" cy="4720320"/>
            <a:chOff x="0" y="842040"/>
            <a:chExt cx="2565000" cy="4720320"/>
          </a:xfrm>
        </p:grpSpPr>
        <p:sp>
          <p:nvSpPr>
            <p:cNvPr id="2" name=""/>
            <p:cNvSpPr/>
            <p:nvPr/>
          </p:nvSpPr>
          <p:spPr>
            <a:xfrm rot="559200">
              <a:off x="939960" y="914400"/>
              <a:ext cx="1264680" cy="455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14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082880"/>
              <a:ext cx="2285640" cy="447948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ffc14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AE9F-039E-448D-9641-B9F742CFBC15}" type="slidenum">
              <a:rPr b="0" lang="ko-K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45720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04920"/>
            <a:ext cx="365760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-258840"/>
            <a:ext cx="2209680" cy="3457800"/>
            <a:chOff x="0" y="-258840"/>
            <a:chExt cx="2209680" cy="3457800"/>
          </a:xfrm>
        </p:grpSpPr>
        <p:sp>
          <p:nvSpPr>
            <p:cNvPr id="8" name=""/>
            <p:cNvSpPr/>
            <p:nvPr/>
          </p:nvSpPr>
          <p:spPr>
            <a:xfrm rot="1135800">
              <a:off x="812880" y="-209520"/>
              <a:ext cx="863640" cy="33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1440"/>
              <a:ext cx="2209680" cy="3200400"/>
            </a:xfrm>
            <a:custGeom>
              <a:avLst/>
              <a:gdLst/>
              <a:ahLst/>
              <a:rect l="l" t="t" r="r" b="b"/>
              <a:pathLst>
                <a:path w="1344" h="2064">
                  <a:moveTo>
                    <a:pt x="672" y="2064"/>
                  </a:moveTo>
                  <a:lnTo>
                    <a:pt x="0" y="2064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864" y="480"/>
                  </a:lnTo>
                  <a:lnTo>
                    <a:pt x="624" y="1152"/>
                  </a:lnTo>
                  <a:lnTo>
                    <a:pt x="576" y="1728"/>
                  </a:lnTo>
                  <a:lnTo>
                    <a:pt x="672" y="2064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28600" y="106668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14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179280" y="6137280"/>
            <a:ext cx="1403280" cy="531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4"/>
          <p:cNvSpPr>
            <a:spLocks noGrp="1"/>
          </p:cNvSpPr>
          <p:nvPr>
            <p:ph type="dt" idx="2"/>
          </p:nvPr>
        </p:nvSpPr>
        <p:spPr>
          <a:xfrm>
            <a:off x="3635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0D85-0D82-4819-BE67-671253392442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648520"/>
            <a:ext cx="2450160" cy="4209120"/>
            <a:chOff x="0" y="2648520"/>
            <a:chExt cx="2450160" cy="4209120"/>
          </a:xfrm>
        </p:grpSpPr>
        <p:sp>
          <p:nvSpPr>
            <p:cNvPr id="52" name=""/>
            <p:cNvSpPr/>
            <p:nvPr/>
          </p:nvSpPr>
          <p:spPr>
            <a:xfrm rot="559200">
              <a:off x="907920" y="2720520"/>
              <a:ext cx="1222200" cy="404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870640"/>
              <a:ext cx="2209320" cy="398700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3"/>
          </p:nvPr>
        </p:nvSpPr>
        <p:spPr>
          <a:xfrm>
            <a:off x="3635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79A9-887F-4D0E-8565-36F36C623FA0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92AE-CB20-423F-B80B-4EAE8E70E6D8}" type="slidenum">
              <a:rPr b="0" lang="ko-K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0"/>
            <a:ext cx="6705720" cy="2286000"/>
          </a:xfrm>
          <a:prstGeom prst="rect">
            <a:avLst/>
          </a:prstGeom>
          <a:solidFill>
            <a:srgbClr val="ff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9383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2022480" y="1773360"/>
            <a:ext cx="3701880" cy="11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1916280"/>
            <a:ext cx="6553080" cy="95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14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85880" cy="637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4000" y="1844640"/>
            <a:ext cx="7020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</a:t>
            </a:r>
            <a:br>
              <a:rPr sz="2800"/>
            </a:b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Design Review Document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71611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Copyright © $$, All rights 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113ED-ACCE-497A-975B-03659B7D59C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F44AE4-7C65-4F68-8FD1-6C4C359703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c145"/>
                </a:solidFill>
                <a:latin typeface="Tahoma"/>
              </a:rPr>
              <a:t>Introduction</a:t>
            </a:r>
            <a:endParaRPr b="1" lang="en-US" sz="32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931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Overall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EEC6-EDD4-4A6A-8A14-B13C8139169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56699E5-5F49-47AC-9FF5-035449E095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Package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-2700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9286-F39D-4163-A608-049986650EA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38AEBA9-5390-4092-9FC4-DBE093B54B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Usecase Diagram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71294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640" y="5084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-27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Usecase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78DFB-6B0E-43E5-B08B-C477FB982B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AF97034-F259-4142-BB73-542F3886D9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Usecase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48428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Descrip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Basic Flow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Alternative Flow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Precondi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Postcondi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-27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Usecas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D2E8E-AEBE-438B-8C47-CDECEAC9067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E9BB4B7-8C1C-457D-9152-EAD5749AC0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133720"/>
            <a:ext cx="87105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ffc145"/>
                </a:solidFill>
                <a:latin typeface="Tahoma"/>
              </a:rPr>
              <a:t>Thank You</a:t>
            </a:r>
            <a:endParaRPr b="1" lang="en-US" sz="66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BAE82-1BBC-464B-B9A9-CDB9ED4C1A5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88180A-1283-4796-A721-127FDC4BE3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5:58:58Z</dcterms:created>
  <dc:creator>StarUML</dc:creator>
  <dc:description/>
  <dc:language>en-US</dc:language>
  <cp:lastModifiedBy>김현수</cp:lastModifiedBy>
  <dcterms:modified xsi:type="dcterms:W3CDTF">2005-11-02T04:49:55Z</dcterms:modified>
  <cp:revision>101</cp:revision>
  <dc:subject/>
  <dc:title>Design Review Document</dc:title>
</cp:coreProperties>
</file>